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D06E-C23E-4C46-9AD1-604EEC62FB0C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036B-2F3A-41D5-8079-84316D1BB970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4E03-ADCB-4478-B5F2-48945DE00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FE01-7A2C-478D-B0E1-09ECFC34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5304-9BA1-4D3D-8BAC-1DE8C65F2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63C6-57E8-408A-9F91-CD2F0D977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287D-3C3D-482D-A236-952F9780D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6D05-D0E5-4769-9B6F-B2659738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936E-DB7A-43BF-A64E-975D2279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CB83-977D-4045-9A62-A59676B4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DB53-3713-4467-A98F-5850BD12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D3FC-9B88-4AE6-BA4D-88F084BF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5802-98BA-4C71-AE14-BC3CBD42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9170-F13B-49B8-AA88-56757CE1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D428-70C7-4C6A-9465-BEBC54CD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4B3A-FD80-4F9D-8842-84C5622F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8DE2-656B-4859-9BEB-AAE19EDE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F1AF-6BC2-40C7-ACD3-D9C62F41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DEDB-C07C-4001-B017-35C729DF2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E592-8FDE-4C2A-B9B1-A0A6533F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FD4A-ACEB-4937-AFFA-0AE92D09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FD70-4163-4D52-8D29-2D40FA81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C9E3-C486-41D1-9DC8-D18D2F32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418D-F1D8-4281-BE8C-D5CA410E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1FBF-628E-4DA2-BD13-80F6981B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F503-FD84-4EE2-A5FF-379DA1D7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7E77-F272-4616-859F-728A1CD9524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39393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39393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CA61-B1BF-4281-AAF5-81A49FD5BED8}" type="slidenum">
              <a:rPr b="0" lang="en-CA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istory of Atomic Mode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3276720" y="3645000"/>
            <a:ext cx="309564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15" descr="Image result for atomic model"/>
          <p:cNvPicPr/>
          <p:nvPr/>
        </p:nvPicPr>
        <p:blipFill>
          <a:blip r:embed="rId1"/>
          <a:stretch/>
        </p:blipFill>
        <p:spPr>
          <a:xfrm>
            <a:off x="2987640" y="2637000"/>
            <a:ext cx="2571840" cy="2885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7" descr="Image result for atomic model"/>
          <p:cNvPicPr/>
          <p:nvPr/>
        </p:nvPicPr>
        <p:blipFill>
          <a:blip r:embed="rId2"/>
          <a:stretch/>
        </p:blipFill>
        <p:spPr>
          <a:xfrm>
            <a:off x="324000" y="29368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3" descr="Image result for atomic model schrodinger"/>
          <p:cNvPicPr/>
          <p:nvPr/>
        </p:nvPicPr>
        <p:blipFill>
          <a:blip r:embed="rId3"/>
          <a:stretch/>
        </p:blipFill>
        <p:spPr>
          <a:xfrm>
            <a:off x="6084720" y="2911320"/>
            <a:ext cx="25909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My Documents\School\sc9\thomson model.gif"/>
          <p:cNvPicPr/>
          <p:nvPr/>
        </p:nvPicPr>
        <p:blipFill>
          <a:blip r:embed="rId1"/>
          <a:stretch/>
        </p:blipFill>
        <p:spPr>
          <a:xfrm>
            <a:off x="0" y="587520"/>
            <a:ext cx="9144000" cy="62704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1752480" y="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um-Pudding Mod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0" y="6400800"/>
            <a:ext cx="472428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rnest Rutherfor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3" descr="C:\My Documents\School\sc9\rutherford.jpg"/>
          <p:cNvPicPr/>
          <p:nvPr/>
        </p:nvPicPr>
        <p:blipFill>
          <a:blip r:embed="rId1"/>
          <a:stretch/>
        </p:blipFill>
        <p:spPr>
          <a:xfrm>
            <a:off x="2789280" y="1847880"/>
            <a:ext cx="366228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utherford Gold Foil (Geiger Muller) Experi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rnest Rutherford proposed shooting alpha particles at extremely thin gold fo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went right through with little deflection, but some bounced bac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result was thought to be like cannon balls bouncing off tissue paper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https://upload.wikimedia.org/wikipedia/commons/thumb/f/f9/Geiger-Marsden_experiment_expectation_and_result.svg/1024px-Geiger-Marsden_experiment_expectation_and_result.svg.png"/>
          <p:cNvPicPr/>
          <p:nvPr/>
        </p:nvPicPr>
        <p:blipFill>
          <a:blip r:embed="rId1"/>
          <a:stretch/>
        </p:blipFill>
        <p:spPr>
          <a:xfrm>
            <a:off x="1193760" y="692280"/>
            <a:ext cx="6253200" cy="58323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pha particles should be undeflected but observed to bounce 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utherford Atomic Mod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alpha particles must have bounced off an area of the atom that is positively charged and extremely dens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utherford concluded that the atom has a dense positive nucleus with electrons orbiting aroun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utherford Model of the Atom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8" descr="Image result for rutherford model"/>
          <p:cNvPicPr/>
          <p:nvPr/>
        </p:nvPicPr>
        <p:blipFill>
          <a:blip r:embed="rId1"/>
          <a:stretch/>
        </p:blipFill>
        <p:spPr>
          <a:xfrm>
            <a:off x="539640" y="1197000"/>
            <a:ext cx="762012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iels Boh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3" descr="C:\My Documents\School\sc9\bohr.jpg"/>
          <p:cNvPicPr/>
          <p:nvPr/>
        </p:nvPicPr>
        <p:blipFill>
          <a:blip r:embed="rId1"/>
          <a:stretch/>
        </p:blipFill>
        <p:spPr>
          <a:xfrm>
            <a:off x="4114800" y="765000"/>
            <a:ext cx="401328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ohr Model 191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ght (electromagnetic radiation) is emitted from matter at particular energies, or quanta (from Planck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ght is produced when electrons move from high energy states to low energy states. E=hf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lectrons exist in particular orbit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https://upload.wikimedia.org/wikipedia/commons/thumb/a/a5/Bohr_atom_model_English.svg/420px-Bohr_atom_model_English.svg.png"/>
          <p:cNvPicPr/>
          <p:nvPr/>
        </p:nvPicPr>
        <p:blipFill>
          <a:blip r:embed="rId1"/>
          <a:stretch/>
        </p:blipFill>
        <p:spPr>
          <a:xfrm>
            <a:off x="1403280" y="115920"/>
            <a:ext cx="590544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dern Atomic Mod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antum Mechanics shows how there is a limit to our ability to determine the motion and position of partic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otion of objects is described using a wave equation, </a:t>
            </a:r>
            <a:r>
              <a:rPr b="0" lang="en-CA" sz="2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where </a:t>
            </a:r>
            <a:r>
              <a:rPr b="0" lang="en-CA" sz="2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CA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the probability distribution of the object.  Graphing </a:t>
            </a:r>
            <a:r>
              <a:rPr b="0" lang="en-CA" sz="2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CA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an electron around the hydrogen atom we obtain orbital shap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Related image"/>
          <p:cNvPicPr/>
          <p:nvPr/>
        </p:nvPicPr>
        <p:blipFill>
          <a:blip r:embed="rId1"/>
          <a:stretch/>
        </p:blipFill>
        <p:spPr>
          <a:xfrm>
            <a:off x="-12600" y="176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Image result for kanada atomic theory"/>
          <p:cNvPicPr/>
          <p:nvPr/>
        </p:nvPicPr>
        <p:blipFill>
          <a:blip r:embed="rId2"/>
          <a:stretch/>
        </p:blipFill>
        <p:spPr>
          <a:xfrm>
            <a:off x="4356000" y="2492280"/>
            <a:ext cx="19195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Image result for orbitals s p d f"/>
          <p:cNvPicPr/>
          <p:nvPr/>
        </p:nvPicPr>
        <p:blipFill>
          <a:blip r:embed="rId1"/>
          <a:stretch/>
        </p:blipFill>
        <p:spPr>
          <a:xfrm>
            <a:off x="-1440" y="0"/>
            <a:ext cx="929484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9" descr="Image result for atomic model schrodinger"/>
          <p:cNvPicPr/>
          <p:nvPr/>
        </p:nvPicPr>
        <p:blipFill>
          <a:blip r:embed="rId1"/>
          <a:stretch/>
        </p:blipFill>
        <p:spPr>
          <a:xfrm>
            <a:off x="1619280" y="944640"/>
            <a:ext cx="626580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dwick 1931 discovered that the nucleus contains protons and neutr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ons and neutrons are composed of quarks (1964 Gell-Mann and Zweig)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rong force between the quarks is what holds the nucleus together and produces massive amounts of energy in a nuclear reaction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side the Nucleu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mework P584 Q 1.1-1.4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5" descr="Image result for atomic model schrodinger"/>
          <p:cNvPicPr/>
          <p:nvPr/>
        </p:nvPicPr>
        <p:blipFill>
          <a:blip r:embed="rId1"/>
          <a:stretch/>
        </p:blipFill>
        <p:spPr>
          <a:xfrm>
            <a:off x="324000" y="1760400"/>
            <a:ext cx="825660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2" descr="Related image"/>
          <p:cNvPicPr/>
          <p:nvPr/>
        </p:nvPicPr>
        <p:blipFill>
          <a:blip r:embed="rId1"/>
          <a:stretch/>
        </p:blipFill>
        <p:spPr>
          <a:xfrm>
            <a:off x="4473720" y="765000"/>
            <a:ext cx="4373280" cy="4114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Related image"/>
          <p:cNvPicPr/>
          <p:nvPr/>
        </p:nvPicPr>
        <p:blipFill>
          <a:blip r:embed="rId2"/>
          <a:stretch/>
        </p:blipFill>
        <p:spPr>
          <a:xfrm>
            <a:off x="20520" y="765000"/>
            <a:ext cx="4238640" cy="44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9760" y="254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4" descr="Image result for history of atom"/>
          <p:cNvPicPr/>
          <p:nvPr/>
        </p:nvPicPr>
        <p:blipFill>
          <a:blip r:embed="rId1"/>
          <a:stretch/>
        </p:blipFill>
        <p:spPr>
          <a:xfrm>
            <a:off x="179280" y="-100080"/>
            <a:ext cx="6077160" cy="45626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2" descr="Image result for history of atom"/>
          <p:cNvPicPr/>
          <p:nvPr/>
        </p:nvPicPr>
        <p:blipFill>
          <a:blip r:embed="rId1"/>
          <a:stretch/>
        </p:blipFill>
        <p:spPr>
          <a:xfrm>
            <a:off x="2013120" y="1981080"/>
            <a:ext cx="5117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2" descr="Image result for history of atom"/>
          <p:cNvPicPr/>
          <p:nvPr/>
        </p:nvPicPr>
        <p:blipFill>
          <a:blip r:embed="rId1"/>
          <a:stretch/>
        </p:blipFill>
        <p:spPr>
          <a:xfrm>
            <a:off x="41400" y="307800"/>
            <a:ext cx="9102600" cy="64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08600" y="898200"/>
            <a:ext cx="4486320" cy="226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Democritus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(460-360 BC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7" descr="Related image"/>
          <p:cNvPicPr/>
          <p:nvPr/>
        </p:nvPicPr>
        <p:blipFill>
          <a:blip r:embed="rId1"/>
          <a:stretch/>
        </p:blipFill>
        <p:spPr>
          <a:xfrm>
            <a:off x="108000" y="115920"/>
            <a:ext cx="48006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Democritu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ll things are composed of minute, invisible and indivisible particles, atoma, (indivisibles) in constant motion through otherwise empty space, kenon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istot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28240" y="1988640"/>
            <a:ext cx="51354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gued against atomic theory and believed everything was composed of the 5 elem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ly influential for 2000 yea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Image result for aristotle"/>
          <p:cNvPicPr/>
          <p:nvPr/>
        </p:nvPicPr>
        <p:blipFill>
          <a:blip r:embed="rId1"/>
          <a:stretch/>
        </p:blipFill>
        <p:spPr>
          <a:xfrm>
            <a:off x="5148360" y="374760"/>
            <a:ext cx="35719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alton 1800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8000" y="1981080"/>
            <a:ext cx="431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micals are composed of elements combined together in certain propor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lliard bal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el of at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7" descr="Image result for john dalton billiard ball model"/>
          <p:cNvPicPr/>
          <p:nvPr/>
        </p:nvPicPr>
        <p:blipFill>
          <a:blip r:embed="rId1"/>
          <a:stretch/>
        </p:blipFill>
        <p:spPr>
          <a:xfrm>
            <a:off x="4896000" y="6480"/>
            <a:ext cx="4032000" cy="4032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Image result for john dalton billiard ball model"/>
          <p:cNvPicPr/>
          <p:nvPr/>
        </p:nvPicPr>
        <p:blipFill>
          <a:blip r:embed="rId2"/>
          <a:stretch/>
        </p:blipFill>
        <p:spPr>
          <a:xfrm>
            <a:off x="3995640" y="4181400"/>
            <a:ext cx="35290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Content Placeholder 5" descr="Image result for dalton atomic model"/>
          <p:cNvPicPr/>
          <p:nvPr/>
        </p:nvPicPr>
        <p:blipFill>
          <a:blip r:embed="rId1"/>
          <a:stretch/>
        </p:blipFill>
        <p:spPr>
          <a:xfrm>
            <a:off x="108000" y="1571760"/>
            <a:ext cx="87613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ir Joseph John Thomson 19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alyzed the nature of cathode ray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noticed that they had particle like properties and were identical regardless of the material producing the ray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6" descr="Image result for jj thomson"/>
          <p:cNvPicPr/>
          <p:nvPr/>
        </p:nvPicPr>
        <p:blipFill>
          <a:blip r:embed="rId1"/>
          <a:stretch/>
        </p:blipFill>
        <p:spPr>
          <a:xfrm>
            <a:off x="5076720" y="1125360"/>
            <a:ext cx="3434040" cy="53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lum-Pudding Mod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rd Kelvin and JJ Thomson concluded that the atom was composed of tiny negatively charged electrons and positive charge mixed together. This was called the Plum-Pudding Model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1T20:47:02Z</dcterms:created>
  <dc:creator>Sir Winston Churchill Secondary</dc:creator>
  <dc:description/>
  <dc:language>en-US</dc:language>
  <cp:lastModifiedBy>Adam Mathew Klaassen</cp:lastModifiedBy>
  <dcterms:modified xsi:type="dcterms:W3CDTF">2017-02-15T22:35:54Z</dcterms:modified>
  <cp:revision>48</cp:revision>
  <dc:subject/>
  <dc:title>Sir Joseph John Thompson</dc:title>
</cp:coreProperties>
</file>